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AC1-B3CF-43C2-8618-EC1E41CE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103-CF0F-4BBA-A4E6-0053B96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CD8-3CC3-48C5-A9A1-B00923FE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06E-F1A2-4354-97BC-404713EF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37D-EE22-4CC0-B164-E9FFB42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612-CAB1-478F-BA3F-92E309C2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EE5-1016-4C8D-9B37-FEF29374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18D-E8DA-437B-8B3A-4157CDFE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2DB-51DC-4268-B50C-F88C9C78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01A-EBBB-466B-AD50-C22FC6D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8D9-E535-4142-8919-FE6FF72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C97-D5C2-43D9-AA61-1DCD10D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2A79-EA74-4820-805D-27AED3ABDCC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+ některé činnosti spadající do okruh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, a další aktivity okruhu A, pokud jsou zaměřené na konkrétní zaměstnavatele (tj. nepřenositelné na jiné podni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podpora de minimis veřejnou podporou, neboť z důvodu své bagatelní výše nemůže ovlivnit obchod mezi členskými státy a  ani narušit hospodářskou soutěž, a nesplňuje tak všechny čtyři znaky veřejné podpory 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439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76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„Rozdělení veřejné podpory a soukromého financování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dnikatelských aktivit cílové skupiny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ání mzdových příspěvků + některé činnosti spadající do okruhu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08T12:20:51Z</dcterms:modified>
  <cp:revision>284</cp:revision>
  <dc:subject/>
  <dc:title>Snímek 1</dc:title>
</cp:coreProperties>
</file>